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CC2-F854-495E-828C-3C513647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A34-978B-42FC-806B-57D5BF0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0C4-7E5E-436F-AF3F-9D04B67E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14-7E1D-4DE7-8AEB-00F0209A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44C-66B1-48C9-AEBD-A61698AC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77A-B79B-45BA-A04C-B92275C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CB-A661-45E3-8E33-CC95518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321-DE25-4C62-899A-40C4F0D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260-8DFA-40B0-82C6-A39C186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AB5-69E8-4315-B7BA-B0DD087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B31-DD0A-4A4D-A96E-3BA91DB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80D-C0EE-4BC5-8CBB-8892D8E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A1D-3266-492B-AEE7-378106B2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hyperlink" Target="http://www.ogcnetwork.net/system/files/080206+ADC-6+Percivall.ppt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hyperlink" Target="mailto:rhusar@me.wustl.edu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 Pilot Note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civall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resen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Ispra,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3327480" cy="248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257800" y="1523880"/>
            <a:ext cx="3201840" cy="24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050840" y="1511280"/>
            <a:ext cx="3333960" cy="24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3220920" cy="248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867280" y="3505320"/>
            <a:ext cx="238320" cy="858600"/>
          </a:xfrm>
          <a:prstGeom prst="downArrow">
            <a:avLst>
              <a:gd name="adj1" fmla="val 50000"/>
              <a:gd name="adj2" fmla="val 900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505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rom One-shot to Evolutionary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0480" y="448164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.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9560" y="191124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50840" y="1511280"/>
            <a:ext cx="3333960" cy="24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315200" y="1219320"/>
            <a:ext cx="1676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husar@me.wustl.edu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, Feb 14, 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lot in Ph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5257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Goal: Per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19:53Z</dcterms:created>
  <dc:creator>Administrator</dc:creator>
  <dc:description/>
  <dc:language>en-US</dc:language>
  <cp:lastModifiedBy>Administrator</cp:lastModifiedBy>
  <dcterms:modified xsi:type="dcterms:W3CDTF">2008-02-15T07:25:10Z</dcterms:modified>
  <cp:revision>1</cp:revision>
  <dc:subject/>
  <dc:title>AI Pilot Notes from G. Percivall Presentation at Ispra, IT</dc:title>
</cp:coreProperties>
</file>